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F069-5217-4B6C-812C-607D8557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294-7556-4108-BE08-3874B717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55D-625A-45FB-BF8C-FF08B476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72E-671D-42B6-B481-D53C0CD9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53E0-BB5B-4614-BB40-94EA9CAD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EB08-3548-4089-9CB9-A97AE2D8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9D56-6856-4884-B70A-EBD85B03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6E94-623D-40A7-AF87-44459F25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E2B2-1ED6-415B-8F20-1B880CFF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0B60-00DD-4F53-92C4-7F31BB2C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7384-FADD-417F-A76F-70E1B41A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865-E0D2-4109-A0B7-20A88B7A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25BB-3FE8-4BB0-84E7-1A683794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F4A5-B4A6-48A2-8C17-194CE129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515A-9F68-4EC8-9213-E118D59B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2FA7-5C0B-4C37-928A-BC8F6997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1FAF-E3C3-4248-9444-AE939918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FA8-9825-4EA5-A48E-69BF558C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3F2-ECB4-46AC-92F3-07FCA30C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B796-6FDD-4B7C-8D14-723EA00A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99ED-CDEE-43A1-A598-E841B8CE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D72-89C1-4DA6-9E55-2CE83240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B48-966B-45BF-ABA2-7545DE67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3BF7-033A-4C4E-88B6-F2A35AA7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1B95-583D-46BE-A6D5-D943EC33F7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25BD-E8F8-4CCB-A719-95E0E20DA4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atching Up From Last Less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llowed 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#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oppressed by the Midianit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6:1-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hovah hears Israel’s cry, v7-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deon C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deon Destroys The Altar of Ba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ianites Gather Against Isr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Gives Gideon S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deon Prepares His A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ttle (7:19-2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ictory (7:24 - 8: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 The Days of The Jud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3, Lesson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s 8:4 – 9:5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. 74-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deon Kills Other Midianite Leaders  8:4-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hraim Angry For Not Being Called To He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Gives Them Credit For Their Impor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Slays Zebah &amp; Zalmunna, Kings of Mid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Asks Gideon To Rule Over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: “God Shall Rule Over You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-15840"/>
            <a:ext cx="8305920" cy="695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phod Becomes An Item of Worship – 8:22-3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Made An Ephod of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Played The Harlot After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lso A Snare To Gide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Had Many Wives &amp; 70 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melech Was A Son To A Concub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Dies &amp; Is Buried In Ophr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Turns Again To Serve Baal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9724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438280" y="765000"/>
            <a:ext cx="6705720" cy="5612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33520" y="1600200"/>
            <a:ext cx="13716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deon Kills Other Midianite Lea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80880" y="50292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ccoth – Today Tell Deir All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Fords of Jabbok from north"/>
          <p:cNvPicPr/>
          <p:nvPr/>
        </p:nvPicPr>
        <p:blipFill>
          <a:blip r:embed="rId2"/>
          <a:stretch/>
        </p:blipFill>
        <p:spPr>
          <a:xfrm>
            <a:off x="5105520" y="1447920"/>
            <a:ext cx="3809880" cy="2371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410080" y="4038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enu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imele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 God-Appointed Ju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lf-Appointed, Wicked Lea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eement With The Men of Shechem 9:1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lls His Brothers, All Except Joth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tham Reproves. 7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ship Deteriorates – 22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al Challenges Abimelech -26-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imele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bul Sends Word of Gaal’s Revolt to Abimelech  30-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melech Attacks Shechem  34-4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, He Tries To Burn The Tower of Theb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oman Throws Down A Millstone And Cracks His Sku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sks A Servant To Finish Him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of Pu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d Israel 23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dianites Gather Against Isra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:33-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ianites, and others east of Jordan, came across the Jordan to the valley of Jezreel, v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pirit of the Lord came upon Gideon and he blew the “call” trumpet, v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, Manasseh and other northern tribes met Gideon, v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ilead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d Israel 22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30 Sons On 30 Co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d, Buried in Ka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Turns Away Again &amp; Is Delivered to Philistines &amp; Ammonites For 18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rrow And Realization of Need Fo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ick Summary of Gide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ression of the Midian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 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de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Fifth Ju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gel Jehov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Overthrows The Altar of Ba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Musters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gns of the Flee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ice of 300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umpets, Lamps, &amp; Pitc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Gideon To Ja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deon Refuses The C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Makes An Ep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melech Murders Gideon’s Sons And Becomes King At Shec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able of Joth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olt Against Abimel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ruction of Shec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 of Abimel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la &amp; J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114800" cy="2664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380880" y="2971800"/>
            <a:ext cx="31528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lboa View of Jezreel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267080" y="228600"/>
            <a:ext cx="4673880" cy="3490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343400" y="38098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arod Valley of Jezre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228600" y="3395520"/>
            <a:ext cx="3638520" cy="3462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648320" y="4194000"/>
            <a:ext cx="3657600" cy="2664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80880" y="990720"/>
            <a:ext cx="1676520" cy="5486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162920" y="1676520"/>
            <a:ext cx="1371600" cy="4114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d Gives Gideon Sig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nfirmation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uld save Israe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6:36-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spoke to Go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ill put a fleece of wool on the fl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sig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f dew is on the fleece but not on the fl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sig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f dew is on the floor but not on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4270320" cy="28224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Prepares His Ar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:1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ed with 32,000 men in his a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aid he had too many men, v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0 Men And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Prepares His Ar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lessons do we learn from these numbers and these tes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Romans 8: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parations For The Att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7:9-1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told to go to the Midianite camp and listen, v9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built up his confidence, v13-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, his strategy, v16-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told his army: “Do as I d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24004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attle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7:19-2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army followed his instructions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ked after the night watch chan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w the trump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ke the pitchers revealing the la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ed, “The sword of the Lord and of Gideon, v19-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nfusion, the Midianites slaughtered each other.  The rest ran, but were pursued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22-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48040" cy="30481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Victory (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:24 - 8: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 sent to Ephraimites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 the Midianites passage over the Jordan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tured 2 leaders of the Midianites and cut off their heads, 24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the Ephraimites complain, 8: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: Isn’t the gleaning of Ephraim better than the harvest of Abiezer?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8:2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02:32:35Z</dcterms:created>
  <dc:creator>Terry W. Benton</dc:creator>
  <dc:description/>
  <dc:language>en-US</dc:language>
  <cp:lastModifiedBy>PINE LANE</cp:lastModifiedBy>
  <dcterms:modified xsi:type="dcterms:W3CDTF">2005-02-11T20:44:25Z</dcterms:modified>
  <cp:revision>5</cp:revision>
  <dc:subject/>
  <dc:title>In The Days of The Judges</dc:title>
</cp:coreProperties>
</file>